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8444-1EEE-4F98-8B92-4CBB180307E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3CE-A81D-445F-92D4-DC22B7AD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7091-16AD-467A-92C7-83A525AF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7120-472C-4BA2-9744-B757AF7C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9A5-217A-46C0-B052-AFE0B4C6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F1ED-E348-41DC-8012-3F59BF7B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7A43-B46D-43FE-959D-7B3EA693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5898-7E52-4C05-BDB6-F6CC700C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9B6C-C1EF-4A64-BD48-2E439BC1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86A3-8C74-4BF8-948D-E9322B18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A774-35A6-43A1-92CD-C9559CBC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85D9-F15C-41C9-B483-F4260DCB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25C-A8E1-40D2-911D-F1C2C1EB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7851-3B20-4CAE-87CE-26302A05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2FE4-6092-48BD-A8FC-5D42D55C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20E0-BAD0-4991-8E9F-A70C11D3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5ADA-1F8F-4C1B-B6FD-C3AFE642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B57C-AAF7-4CFA-869F-BD169CAF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AD7-D9B3-4BDB-98FD-79D974CE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58DF-975D-49DC-8EF7-163390C0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A80-B085-4922-BEB4-A277BDEA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017-A873-4584-B2E5-32E11DDD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11D-48BC-4DEA-8E05-9DC1C3F9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E064-1EA8-40DC-9B05-0B4265AF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CD9-BD26-4156-B84F-2AF8D89C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775E-730C-4CEF-9169-BEC418EDF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1027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1028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029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030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31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32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33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34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35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036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037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038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039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040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041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042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043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044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1045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1046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1047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048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97BA-EC6E-496C-9824-E44A4E903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126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676520" y="4114800"/>
            <a:ext cx="58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886200" y="3124080"/>
            <a:ext cx="1371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464832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3886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849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term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mu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e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sing the sign of the middl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3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ypes of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720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olving Equations by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ry any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     Factor G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                    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 = -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now have 2 answer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Four Term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Picture 3" descr="PE02097_"/>
          <p:cNvPicPr/>
          <p:nvPr/>
        </p:nvPicPr>
        <p:blipFill>
          <a:blip r:embed="rId1"/>
          <a:stretch/>
        </p:blipFill>
        <p:spPr>
          <a:xfrm>
            <a:off x="2590920" y="3389400"/>
            <a:ext cx="433224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1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+ 5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35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7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2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3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: 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+ 4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20 =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The green parentheses are opposites so change the sign on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-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+ 5) o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 4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(5 -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ing Trinominal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quadratic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3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)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ways remember to look for a GC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do ANY other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1:25:54Z</dcterms:created>
  <dc:creator>June Hilton</dc:creator>
  <dc:description/>
  <dc:language>en-US</dc:language>
  <cp:lastModifiedBy>LEGION</cp:lastModifiedBy>
  <dcterms:modified xsi:type="dcterms:W3CDTF">2017-07-06T06:33:27Z</dcterms:modified>
  <cp:revision>23</cp:revision>
  <dc:subject/>
  <dc:title>SECTION 7.3:  Factor By Grouping</dc:title>
</cp:coreProperties>
</file>